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478B0-3C06-4E09-91ED-20D117668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A3361-8238-4497-8077-97AE843B3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9B398-725F-4220-AEBE-38C62DD5D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4DA87-70B0-4E6F-B448-38D7EED5A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28732-3582-4240-B784-AF9031742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4A280-557B-4025-A7D5-77135989B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18919-BEDF-4092-82E2-63C3715DB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90EB5-E819-46C7-A1EB-DC8BC7C5D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9EE9D-9209-4F3D-ADB8-9EE430B4A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A7F56-EB55-40EB-9416-34B12EB8B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35363-B2C6-4BE1-B0C1-8F710EA09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CE230-9C2D-4F20-865B-302B9372E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50D74-795D-4386-9A21-5BF3FFA659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Реализация стандарта второго поколения: проблемы и труднос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63F72-AA46-4A45-A58B-1ABFA16FDAE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3399"/>
                </a:solidFill>
                <a:latin typeface="Arial"/>
              </a:rPr>
              <a:t>Регулятивные универсальные действ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Осуществлять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ействия по образцу и заданному правилу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Сохранят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заданную цел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Видеть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казанную ошибку и исправить ее по указанию взрослого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Контролироват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свою деятельность по результатам, адекватно принимать оценк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4B3F7-CB36-40F3-9C90-891C51BB0AE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324000" y="404640"/>
            <a:ext cx="8820000" cy="645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3399"/>
                </a:solidFill>
                <a:latin typeface="Arial"/>
              </a:rPr>
              <a:t>Познавательные универсальные действ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1. Общеучебные</a:t>
            </a:r>
            <a:r>
              <a:rPr b="0" lang="en-US" sz="2800" spc="-1" strike="noStrike">
                <a:solidFill>
                  <a:srgbClr val="cc33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формулирование цели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иск и анализ информаци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cc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99"/>
                </a:solidFill>
                <a:latin typeface="Arial"/>
              </a:rPr>
              <a:t>моделирование</a:t>
            </a:r>
            <a:r>
              <a:rPr b="0" lang="en-US" sz="2800" spc="-1" strike="noStrike">
                <a:solidFill>
                  <a:srgbClr val="cc3399"/>
                </a:solidFill>
                <a:latin typeface="Arial"/>
              </a:rPr>
              <a:t>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труктурирование знания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оставление устных 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исьменных высказывани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ценка своих действий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cc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99"/>
                </a:solidFill>
                <a:latin typeface="Arial"/>
              </a:rPr>
              <a:t>смысловое (мотивированное) чтение</a:t>
            </a:r>
            <a:r>
              <a:rPr b="0" lang="en-US" sz="2800" spc="-1" strike="noStrike">
                <a:solidFill>
                  <a:srgbClr val="cc3399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формулирование пробле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9BFF0-600F-4BD9-BC88-B76D4C594FC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Моделирующая деятельнос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Цел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поиск ответа на вопрос: как строится загадка (1 класс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«Влез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опено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на пене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остоял один дене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Тоненький, тоненьк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ожка, что соломин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Ясно ли, о чем идет речь в стихотворени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ожно ли назвать его загадкой? Почему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еределаем это стихотворение на загадку. О чем может быть загадка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Что нужно сделать? Каким словом Заменим слово «опенок» словом «Антошка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лучилась загадк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3113A-DFB0-4E01-80C9-3DB32CC1979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95280" y="404280"/>
            <a:ext cx="829152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бучение грамоте должно строиться на </a:t>
            </a:r>
            <a:r>
              <a:rPr b="1" lang="en-US" sz="3200" spc="-1" strike="noStrike">
                <a:solidFill>
                  <a:srgbClr val="cc3399"/>
                </a:solidFill>
                <a:latin typeface="Arial"/>
              </a:rPr>
              <a:t>моделирован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2700360" y="1700280"/>
            <a:ext cx="4869000" cy="4602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EF3E9-99B1-42B6-AF0A-ED6AEB41DA0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395280" y="476280"/>
            <a:ext cx="829152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оследим, как в одном задании сочетается образец, инструкция и самоконтрол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2050920" y="2060640"/>
            <a:ext cx="5400720" cy="4032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6964A-B33A-4CFD-9ED3-0F8DBF9F088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i="1" lang="en-US" sz="4000" spc="-1" strike="noStrike">
                <a:solidFill>
                  <a:srgbClr val="333399"/>
                </a:solidFill>
                <a:latin typeface="Arial"/>
              </a:rPr>
              <a:t>Универсальные логические действия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ыделение признаков предмет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равнение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ериация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классификация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ссуждени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гипотез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доказательст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71740-6D64-408E-9793-F11EB48DC71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395280" y="404280"/>
            <a:ext cx="829152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К логическим универсальным действиям относятся действия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cc3399"/>
                </a:solidFill>
                <a:latin typeface="Arial"/>
              </a:rPr>
              <a:t>классификации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476360" y="2314440"/>
            <a:ext cx="5543640" cy="4138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4ED3C-DF51-4180-884E-BC634DC2983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708360" y="2997360"/>
            <a:ext cx="1079640" cy="64764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rot="13631400">
            <a:off x="1763640" y="1628280"/>
            <a:ext cx="1440000" cy="1440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292720" y="4292640"/>
            <a:ext cx="1943280" cy="194472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867280" y="1484280"/>
            <a:ext cx="1081080" cy="2303640"/>
          </a:xfrm>
          <a:prstGeom prst="rtTriangle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042920" y="4797360"/>
            <a:ext cx="2664000" cy="1297080"/>
          </a:xfrm>
          <a:prstGeom prst="parallelogram">
            <a:avLst>
              <a:gd name="adj" fmla="val 5134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6C2A6-8018-4077-9BC4-47FE1D6871A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3628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cc3399"/>
                </a:solidFill>
                <a:latin typeface="Arial"/>
              </a:rPr>
              <a:t>Приемы организации действий ученика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зменится ли геометрическая фигура, если она будет другого цвет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Чем отличается эта фигура от этой такого же (другого) цвет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ожно ли признак «число углов» считать главным (существенным) при разбиении фигур на группы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делаем вывод: число углов – главный признак классификац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A26C1-F74C-4737-AB4B-B7B495DD58C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324000" y="404280"/>
            <a:ext cx="83628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мение рассуждать, дискутировать, приводить доказательства  еще одно </a:t>
            </a:r>
            <a:r>
              <a:rPr b="1" i="1" lang="en-US" sz="3200" spc="-1" strike="noStrike">
                <a:solidFill>
                  <a:srgbClr val="cc3399"/>
                </a:solidFill>
                <a:latin typeface="Arial"/>
              </a:rPr>
              <a:t>логическо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универсальное действ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десь важно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) не бояться неправильных ответов – они «провоцируют» дискуссию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) Учить определять «стоимость» довод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) Разрешить остаться при своем мнени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69D66-32DA-4905-9714-192D5E1745E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57200" y="1304640"/>
            <a:ext cx="8229600" cy="48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865080"/>
          </a:xfrm>
          <a:prstGeom prst="rect">
            <a:avLst/>
          </a:prstGeom>
          <a:noFill/>
          <a:ln w="38160">
            <a:solidFill>
              <a:srgbClr val="99cc00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ДИДАКТИЧЕСКАЯ СИСТЕМ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08000" y="2060640"/>
            <a:ext cx="4678560" cy="345600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241720"/>
            <a:ext cx="29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ДИФФЕРЕНЦИА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50920" y="3537000"/>
            <a:ext cx="201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КОНТРОЛЬ   И ОЦЕН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4976640"/>
            <a:ext cx="248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ФОРМЫ ОРГАНИЗ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564000" y="5624640"/>
            <a:ext cx="201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СРЕДСТВА ОБУЧ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048360" y="5084640"/>
            <a:ext cx="201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МЕТОДЫ ОБУЧ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624720" y="3537000"/>
            <a:ext cx="223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СОДЕРЖАНИЕ ОБУЧ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48360" y="2313000"/>
            <a:ext cx="223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МОТИВАЦИЯ ОБУЧ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76720" y="144936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Verdana"/>
              </a:rPr>
              <a:t>ЦЕ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003640" y="1700280"/>
            <a:ext cx="1908360" cy="61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635280" y="3429000"/>
            <a:ext cx="122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743280" y="332100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9A861-A75F-45C0-8BFA-33E86C4B0745}" type="slidenum">
              <a:t>2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395280" y="333000"/>
            <a:ext cx="829152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знавательным универсальным умением является </a:t>
            </a:r>
            <a:r>
              <a:rPr b="1" lang="ru-RU" sz="3200" spc="-1" strike="noStrike">
                <a:solidFill>
                  <a:srgbClr val="cc3399"/>
                </a:solidFill>
                <a:latin typeface="Arial"/>
              </a:rPr>
              <a:t>смысловое мотивированное чт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Arial"/>
              </a:rPr>
              <a:t>Читая текст, обрати внимание, какие сказочные элементы использует авто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Arial"/>
              </a:rPr>
              <a:t>Читая текст, подумай, к какому жанру можно отнести это произведение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Arial"/>
              </a:rPr>
              <a:t>Читая сказку, постарайся запомнить имена главных геро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301840" y="32464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2ADBD-2C04-4DDD-81DE-C3FD4FFFA93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324000" y="404280"/>
            <a:ext cx="83628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чевидно, что изменение целей и содержания образования требует существенных изменений в </a:t>
            </a:r>
            <a:r>
              <a:rPr b="1" lang="en-US" sz="3200" spc="-1" strike="noStrike">
                <a:solidFill>
                  <a:srgbClr val="cc3399"/>
                </a:solidFill>
                <a:latin typeface="Arial"/>
              </a:rPr>
              <a:t>методике и технологии обуч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99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Выбор технологии обучения не может быть случайным и раз и навсегда заданным. Он зависит от цели, которую поставил учитель</a:t>
            </a:r>
            <a:r>
              <a:rPr b="1" lang="en-US" sz="3200" spc="-1" strike="noStrike">
                <a:solidFill>
                  <a:srgbClr val="cc3399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BFD58-3030-420B-8B59-F6188F409CD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1844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900000" y="692280"/>
            <a:ext cx="3024360" cy="1512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ультур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исьменной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еч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859280" y="692280"/>
            <a:ext cx="3025800" cy="1512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зиционны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инци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усского язы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932360" y="2924280"/>
            <a:ext cx="3024360" cy="1441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оделирова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ак при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буч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55640" y="2924280"/>
            <a:ext cx="3095640" cy="1512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ведение гласны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бук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ар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24360" y="148428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885080" y="148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50920" y="3573360"/>
            <a:ext cx="468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140360" y="3645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C6160-0713-4EAC-9B04-F1D862997388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395280" y="476280"/>
            <a:ext cx="829152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Если обучение ориентируется на формирование учебной деятельности, то это значит, - </a:t>
            </a:r>
            <a:r>
              <a:rPr b="1" lang="en-US" sz="3200" spc="-1" strike="noStrike">
                <a:solidFill>
                  <a:srgbClr val="cc3399"/>
                </a:solidFill>
                <a:latin typeface="Arial"/>
              </a:rPr>
              <a:t>на систему учебных задач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Здесь возникает трудность: многие учителя не понимают разницы между практической и учебной задач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52F9E-E23B-4D66-957B-C1A34E1D20B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Задача практическая и учебна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актическая отвечает на вопрос «что нужно делать», поэтому все действия определяются стихий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пример,«обезьяна-клетка-банан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чебная задача отвечает на вопрос «как нужно делать», поэтому все действия осуществляются целенаправлен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Номер слайда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67F34-9D81-4D87-882C-BB423A7FFAC5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FE01F-7478-4425-876D-76E69773140F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3628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У Пети 10 руб., у Васи 15 руб. Сколько </a:t>
            </a:r>
            <a:r>
              <a:rPr b="1" i="1" lang="en-US" sz="2500" spc="-1" strike="noStrike">
                <a:solidFill>
                  <a:srgbClr val="000000"/>
                </a:solidFill>
                <a:latin typeface="Arial"/>
              </a:rPr>
              <a:t>всего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денег у мальчиков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3399"/>
                </a:solidFill>
                <a:latin typeface="Arial"/>
              </a:rPr>
              <a:t>Слово «всего» - прямое указание на ход решения, то есть ограничение поиск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 Это практическая задача. Меняем вопрос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Хватит ли мальчикам денег, чтобы купить рыболовные крючки за 26 руб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3399"/>
                </a:solidFill>
                <a:latin typeface="Arial"/>
              </a:rPr>
              <a:t>В данном случае  нет ограничений для поиска, нет прямого указания на ход решения.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Это  учебная задач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ЫХОД? – Обучать учителя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EE92B-949E-4465-98F4-910E235D166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2447B-C1D7-4D3C-872C-6B865D212A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2" descr=""/>
          <p:cNvPicPr/>
          <p:nvPr/>
        </p:nvPicPr>
        <p:blipFill>
          <a:blip r:embed="rId1"/>
          <a:srcRect l="0" t="57933" r="0" b="0"/>
          <a:stretch/>
        </p:blipFill>
        <p:spPr>
          <a:xfrm>
            <a:off x="684360" y="260280"/>
            <a:ext cx="8459640" cy="6208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021DA-2CAD-473D-BCCA-7B8DB0A482A3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324000" y="260280"/>
            <a:ext cx="836280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Если ребенок не умеет наметить правило поиска, то его работа хаотична, осуществляется путем «проб и ошибок». Для успешного и быстрого решения этого задания в качестве учебной задачи, он должен наметить последовательность действий: «Начинаю с рисунка собаки, потом перехожу к птицам…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84C12-5C19-4B69-BD61-881AF72A67B0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Особенности построения УП в зависимости от поставленной цели</a:t>
            </a:r>
            <a:br>
              <a:rPr sz="2800"/>
            </a:b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599840"/>
            <a:ext cx="4038480" cy="218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99"/>
                </a:solidFill>
                <a:latin typeface="Arial"/>
              </a:rPr>
              <a:t>Репродуктивн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иобретени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сширение, запомин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648320" y="1599840"/>
            <a:ext cx="4038480" cy="218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99"/>
                </a:solidFill>
                <a:latin typeface="Arial"/>
              </a:rPr>
              <a:t>Поисков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нализ, сравн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бобщ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99"/>
                </a:solidFill>
                <a:latin typeface="Arial"/>
              </a:rPr>
              <a:t>Исследовател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ешение пробле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строение гипотез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64832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99"/>
                </a:solidFill>
                <a:latin typeface="Arial"/>
              </a:rPr>
              <a:t>Творческ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амостоятель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нициатив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мпровиза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Номер слайда 6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A6E3C-C361-42D3-BD3E-D4544D070C5E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5366C-F476-4374-BD17-BFFD97664A49}" type="slidenum">
              <a:t>28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395280" y="404280"/>
            <a:ext cx="829152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 стандарте определена цель: формирование </a:t>
            </a:r>
            <a:r>
              <a:rPr b="1" lang="en-US" sz="3200" spc="-1" strike="noStrike">
                <a:solidFill>
                  <a:srgbClr val="cc3399"/>
                </a:solidFill>
                <a:latin typeface="Arial"/>
              </a:rPr>
              <a:t>умений учиться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cc3399"/>
                </a:solidFill>
                <a:latin typeface="Arial"/>
              </a:rPr>
              <a:t>способности к организации своей деятельности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Именно такая целевая установка обеспечит  развитие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психических и личностных новообразований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младшего школьника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о есть речь идет о том, что младший школьник работает в структуре </a:t>
            </a:r>
            <a:r>
              <a:rPr b="1" lang="en-US" sz="2800" spc="-1" strike="noStrike">
                <a:solidFill>
                  <a:srgbClr val="cc3399"/>
                </a:solidFill>
                <a:latin typeface="Arial"/>
              </a:rPr>
              <a:t>учебной деятель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637E0-D8FC-4823-A241-8920670C195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324000" y="476280"/>
            <a:ext cx="83628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cc3399"/>
                </a:solidFill>
                <a:latin typeface="Arial"/>
              </a:rPr>
              <a:t>Учебная деятельность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должна быть представлена в содержании програм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ка таких программ две – Эльконина-Давыдова и «Начальная школа ХХ1 века». В соответствии со стандартом эту задачу должны решить все авторы програм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A97A7-39F3-4269-BEC0-A45A169393A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394920" y="333360"/>
            <a:ext cx="830268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Пример типового представления содержания обучения грамот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333399"/>
                </a:solidFill>
                <a:latin typeface="Arial"/>
              </a:rPr>
              <a:t>Звуки и буквы. Гласные звуки. Согласные звуки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Пример представления содержания в логике формирования новообразований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333399"/>
                </a:solidFill>
                <a:latin typeface="Arial"/>
              </a:rPr>
              <a:t>Смыслоразличительные качества звуков. Единство звукового состава слова и его значения. Звуковой анализ слова. Число и последовательность звуков в слове. Сопоставление слов, различающихся одним звуком. Различение слов с твердыми и мягкими согласными. Моделирование слов с разными звуками с использованием фишек</a:t>
            </a:r>
            <a:r>
              <a:rPr b="0" lang="en-US" sz="25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977B3-13E4-422C-922E-80783770D5D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99"/>
                </a:solidFill>
                <a:latin typeface="Arial"/>
              </a:rPr>
              <a:t>Учебная деятельность не </a:t>
            </a:r>
            <a:r>
              <a:rPr b="1" lang="en-US" sz="4000" spc="-1" strike="noStrike">
                <a:solidFill>
                  <a:srgbClr val="cc3399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cc3399"/>
                </a:solidFill>
                <a:latin typeface="Arial"/>
              </a:rPr>
              <a:t>равна </a:t>
            </a:r>
            <a:r>
              <a:rPr b="1" lang="en-US" sz="4000" spc="-1" strike="noStrike">
                <a:solidFill>
                  <a:srgbClr val="cc3399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cc3399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cc3399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cc3399"/>
                </a:solidFill>
                <a:latin typeface="Arial"/>
              </a:rPr>
              <a:t>учению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Структура учебной деятельност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требность – задача – мотив – действия – операц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сходя из этого, в стандарте особое внимание уделяется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универсальным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учебным действия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98E07-6D85-4E3D-B4E1-9D62B8E5FAB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394920" y="333360"/>
            <a:ext cx="830268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ЧТО ТАКОЕ УУД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9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cc3399"/>
                </a:solidFill>
                <a:latin typeface="Arial"/>
              </a:rPr>
              <a:t>Это главное составляющее любого умения (в данном случае умения учиться)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овокупность способов приемов, которыми пользуется ученик для решения учебной задач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Универсальность означает «независимость» от конкретного предметного содерж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9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cc3399"/>
                </a:solidFill>
                <a:latin typeface="Arial"/>
              </a:rPr>
              <a:t>Без сформированности УУД нельзя развить способность субъекта к самообучению (саморазвитию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52C03-D787-4C4A-A9C9-361D9A41838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cc3399"/>
                </a:solidFill>
                <a:latin typeface="Arial"/>
              </a:rPr>
              <a:t>Виды универсальных действ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Личностны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Регулятивны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Познавательны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Коммуникативны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23F2C-9EF0-4B6D-ACF2-27EE1EA976B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3399"/>
                </a:solidFill>
                <a:latin typeface="Arial"/>
              </a:rPr>
              <a:t>Личностные универсальные действ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042920" y="1844640"/>
            <a:ext cx="7777080" cy="42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Внутренняя позиция школьник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отношение к школе; мотивы учения, самооценк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Самоопределени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гражданская идентичность, этническая принадлежность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AADF0-EB43-4455-95B8-1CE83E09495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4T12:24:18Z</dcterms:created>
  <dc:creator>home</dc:creator>
  <dc:description/>
  <dc:language>en-US</dc:language>
  <cp:lastModifiedBy>home</cp:lastModifiedBy>
  <dcterms:modified xsi:type="dcterms:W3CDTF">2010-03-17T17:46:42Z</dcterms:modified>
  <cp:revision>15</cp:revision>
  <dc:subject/>
  <dc:title>Реализация стандарта второго поколения: проблемы и трудности</dc:title>
</cp:coreProperties>
</file>